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679A-FCDB-4CBB-ACF5-7B0876AD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E42-B870-49B9-84FB-EF392B62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853C-8CC4-49C5-B76E-8185CC61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C6F-036B-4131-B5B3-479FCDE2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1A3-3197-40CF-8F69-AA88E74E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F60-A3A1-4F26-B410-1A0DDFB9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68D0-DB79-434C-BB9D-52B9707D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B476-9184-4F02-A02D-595D98EC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197-2744-46E9-A7B3-9A22D43E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00C2-CDBE-46C0-8056-0D1BE448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1CB-7D00-4CC4-B721-74C231AE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03A9-6F96-44CA-9422-05C095E3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1F21-A259-4469-B284-79EC814E36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7607cca5970t"/>
          <p:cNvPicPr/>
          <p:nvPr/>
        </p:nvPicPr>
        <p:blipFill>
          <a:blip r:embed="rId1"/>
          <a:stretch/>
        </p:blipFill>
        <p:spPr>
          <a:xfrm>
            <a:off x="0" y="-171360"/>
            <a:ext cx="9448920" cy="753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 думаете, почему химические волокна получили такое названи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Почему возникла необходимость в получении химических волок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402264575-oboi-1920h1080"/>
          <p:cNvPicPr/>
          <p:nvPr/>
        </p:nvPicPr>
        <p:blipFill>
          <a:blip r:embed="rId1"/>
          <a:stretch/>
        </p:blipFill>
        <p:spPr>
          <a:xfrm>
            <a:off x="-812880" y="-304920"/>
            <a:ext cx="10765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нашего п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640" y="268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ать представление о видах химически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скрыть классификацию химических волок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знакомится  с технологией производства искусственны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ся определять вид волокна по внешни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7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ма урока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«Виды и свойства химических волоко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835344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химических воло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160" y="1049400"/>
            <a:ext cx="887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otto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246240"/>
            <a:ext cx="9785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сем исследованным ткан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680" y="1390680"/>
          <a:ext cx="9753480" cy="6405480"/>
        </p:xfrm>
        <a:graphic>
          <a:graphicData uri="http://schemas.openxmlformats.org/drawingml/2006/table">
            <a:tbl>
              <a:tblPr/>
              <a:tblGrid>
                <a:gridCol w="474480"/>
                <a:gridCol w="2586240"/>
                <a:gridCol w="1577880"/>
                <a:gridCol w="152280"/>
                <a:gridCol w="1403640"/>
                <a:gridCol w="1779480"/>
                <a:gridCol w="1779480"/>
              </a:tblGrid>
              <a:tr h="70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Характерные признаки определения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Показатели признаков ткан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в мокром состоя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4"/>
          <p:cNvSpPr/>
          <p:nvPr/>
        </p:nvSpPr>
        <p:spPr>
          <a:xfrm>
            <a:off x="11160" y="623520"/>
            <a:ext cx="1473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определения искусственных и синтетических ткан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00000" y="1197000"/>
            <a:ext cx="77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 гардеробе современного человека очень трудно найти вещь, изготовленную из натурального волок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6086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39640" y="2276640"/>
            <a:ext cx="815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эскиз модели швейного изделия из химических тка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4:50:12Z</dcterms:created>
  <dc:creator>Пользователь</dc:creator>
  <dc:description/>
  <dc:language>en-US</dc:language>
  <cp:lastModifiedBy>Пользователь</cp:lastModifiedBy>
  <dcterms:modified xsi:type="dcterms:W3CDTF">2018-09-28T07:15:26Z</dcterms:modified>
  <cp:revision>6</cp:revision>
  <dc:subject/>
  <dc:title>Слайд 1</dc:title>
</cp:coreProperties>
</file>